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386-30FA-4322-8758-93E8E08E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79F-533A-463E-86D2-693293B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BCBA7-8714-4B91-9EF4-F1EEF4D0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0EFCA-779A-4C2A-A4BF-A0F80DF0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9B629-0B02-4323-928B-C1994C11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6EB2E-E421-4333-A960-2C04EEAC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A34F6-CBD0-40F8-8E66-2BBFD42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39A03-DF4E-4A8C-9326-5714464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A470F-6B04-4A10-ABB2-55224813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0E403-149E-46D2-8743-B01F1722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0318D-28FD-4BEB-ABD8-F43F64F2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4670A-ABEF-4CDC-AD1C-AF51F16F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E4B-6712-40B2-9C47-9AF98B39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2B304-9803-4E20-9060-FCD61F1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5645A-8CB7-4FB3-B775-5C1712A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921E6-F665-408B-B458-8D958654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790D-492B-439E-AF5E-BE747E9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F8DE8-2725-4F3D-AE7D-CAE71B6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19D1B-468C-4A11-B734-4C122B0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D695F-10F8-463E-A847-13D91BC3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71EB8-8083-433C-AEE1-CF0B886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A1DE1-E65D-4C75-8D65-0B18E439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133F2-CF4A-4907-AFBB-82C73BA0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4D9-BF72-4F47-A5D1-75CA5D8F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A68A1-855F-4164-8D76-DB8C6DB8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9EA6-8B62-486F-9617-BEDA3071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14DB8-F57A-4D4A-BF25-ECE853F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6E598-77F1-4A27-868D-F5EAE7D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86559-0D2E-49FD-B72C-7EBA8138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D113-5D5C-4D1C-9370-374F3C29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28AAE-3E96-4B4E-8E45-56B7DE8E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34DD4-9D15-48F7-B5D8-9466A43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3BE76-B6A8-449F-B4F7-44E5F9E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044FE-5D28-47E7-AA33-144C531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F8B4-7D28-4CD9-B077-06895DA1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13FC-7696-4CDD-A603-B526A30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4771C-6414-424C-A1ED-6BFA0E4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515C1-FB36-46E8-B529-1F84DB2B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10325-1E3C-4E55-96C4-E13F48FA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15D75-306D-48DD-BF99-30A2248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DE0D7-79D0-413A-81A0-56D01F9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09A56-85D4-4721-BEDF-5F2CE933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699AB-C900-4245-A2C9-E5D728A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E283B-2B5A-459F-BC2D-A2BA366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54EFC-3B98-4189-85C2-7271FC2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51A2-2467-4F46-82ED-EDB7691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2569-FFD3-4851-B547-3FD2493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BCA25-0EB0-4609-9E9B-00A0E13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3372D-E2E4-4958-8032-1A08A27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B70C0-EACB-402C-ACF3-CA07CA62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C7F03-7B9B-4640-93F2-7287E6AA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329DF-493C-4C53-8B71-B93A41FD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777D1-F739-4140-AE31-29E2F7BA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1458A-2E2D-4443-B944-53A39705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6DCEC-C75E-4411-BBE1-998CB51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A5CA6-B70A-4FC4-B7F3-49DD6049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519-9B02-4F04-954C-6E0F1D15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FCCE2-BC31-439F-8616-DBD7BC0E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172A0-163A-4DA7-A923-02D9AB9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7BA29-55D5-4F41-9B84-2EDB6F4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9B96B-7839-4039-9DF9-DA6FA17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5C68E-A797-4789-915E-856A070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6B349-53BE-4D44-8134-3F25EC64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A1688-6153-4801-A412-0CAF2571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A61B4-0BAC-40E1-A7FC-EB9E4BAC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50276-FA0D-4B14-948B-29C4B48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AC0F4-5614-4F02-B315-6E74889B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8388-1091-416D-AA7E-C7B0C8A7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E777F-5F64-463C-A470-138E2DD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072EC-DC51-4BDE-9155-0FEB1B2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BA1D2-D169-44CE-B5EA-5BC5B5E2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40A0C-04E3-4F01-9EF9-1F6A54B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D3218-61CA-4349-981C-762326D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D2F6F-B064-4196-98FA-323AF48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2036D-5950-46AC-9434-DA58A24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7B026-C0A0-48E4-B0B8-59189606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A00C9-18B0-4908-899C-ABE2456E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E8B2C-5AAC-4471-89B4-E3C0FF86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ECEC-7DC9-4479-8803-030B098D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0C560-4AD6-44BC-83C4-C67C4D77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D5F76-C966-41B7-A80A-D40AE9B3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5E048-4AC2-48E0-B1EE-7248F02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476B5-743F-4498-867D-D096A85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91A52-EE77-4728-872E-1350AA4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0D90D-8837-4573-AE6F-F579164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261F8-293E-49B6-B5C4-4B3FC50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070D5-0A79-47FF-A08E-F87C2B9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FA1E9-2E5A-4C36-AC4E-1BB4D8F9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C3D6B-6C7C-443A-A9B4-303A18C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41F-1954-480E-AEDE-E73931D3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76C6D-347D-4193-A62F-DB2CEA6D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1EACE-A501-424B-AF4D-1BF3F1E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A97BC-B213-4A8D-B9D3-795A51E7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B7FBF-F77E-4F36-AC02-9330D251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21601-044C-4463-9230-3510561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7F63C-A3F9-4602-90CF-FCDBFD8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905E8-8B42-40A5-8DAA-6B43FCD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B9D00-D43F-46F2-8DA9-56F2DE3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E6B8F-4EC6-469B-A1B2-180359C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8B73E-8CE8-4D8B-94D7-0304DEA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2AE5-8C1B-4E0C-9307-708BAFF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CB947-66D2-4FB2-B1CF-7EDB90D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F15AD-1F5B-4C32-BAD6-A8660AB9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9A733-0666-429D-B21A-57F0840B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71EB6-880A-485E-ADA6-76C42D9A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1BC38-5EF6-4219-94BD-64216B9C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47DB5-F249-4A40-AF02-AC2EB1E7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487C3-9F4E-426C-893F-A1B4F05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97301-C87D-4945-8B8C-CC9FF93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33D22-EF71-4599-86D0-0384FEF1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3A9C0-3403-41B2-897B-80B1F7F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0A4-C242-4A23-945A-9CD4BA5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54F-56FE-498A-87F7-C7906E1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76600-2308-46A1-A707-4CD10DD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96F17-CE10-4750-9CF8-DA30370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1FCAC-34A4-4F9D-94A6-F420EAF2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C573E-97D4-493A-B38C-12B6E31A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89B81-AE4A-48B6-A30C-1F6C33A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41336-1991-4056-AF44-7B18EC9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1B548-50D7-46CA-BE38-2FEC7EC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40DF8-3E4A-4786-9065-38EADE2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BD59A-4EE4-4874-B72F-AB15ED1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8055D-4F13-413D-818D-A55E1EA4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295-8363-4B5F-A273-27166EFF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25629-C8C9-4B43-BA06-FB14D44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25C4A-5D5D-42CD-AD69-6ABE823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326B9-6D6E-4454-92A7-3F57435C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0662F-5FB4-45EB-A37B-67DCCAB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9EA68-12CB-4E55-A07A-367CCFFB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6ADE1-F0AC-4C3D-ACF1-5F5A9441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E3845-B1FA-482D-BBE1-D0064589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3FC71-C92D-4A74-8A56-2BBF11A4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FF3A36-D911-4571-A33E-821ED12C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416E4-2233-48DA-9701-4A56EEE4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942C-610D-49F7-9CFA-918CB729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34F47-8850-4390-8920-B865CBB4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8A864-9901-4E20-8948-4C3670C8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F2FE7-008E-4F6D-A5D7-A3D2DD8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6AEED-8F2D-47ED-ADD4-8678091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3EC12-991A-47EA-A9FA-E961B70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C5D1B-8292-4426-A5DB-4DA270B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75268-1FD9-433F-8FA4-2AC5321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1C442-A8B4-45A5-8F16-A119F2B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4A47D-3E6B-45A8-9172-932290F6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FF467-A634-48CC-9213-9C906AFB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D880-E72C-4D18-8FAC-95954188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86024-8F5C-4F4F-906E-897A3354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7EEE0-D267-4FFA-B9F7-6699715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C6FA7-735E-40F8-B7FF-8FD446A7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EA306-3390-4F67-9141-F1DC44E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49424-4DF8-4B09-909E-CAEDEDE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F6398-884E-4054-86A8-E4A7D17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D11F0-C042-46F3-A28F-1710154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A7E3C-29FB-468D-8277-E1C5D83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F8746-95F8-4172-84E1-54A9489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CBC3E-2583-4544-9E7E-F4668286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F16E-AF40-4DFF-A49B-28578700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FEC60-053D-4BF9-9B1E-35E0A19D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123B9-4D90-4FA1-9250-91BB534C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3D373-4AE4-4654-9A21-F76095B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54244-C7A4-4D9E-85FE-278C01C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96531-6246-4E25-B044-3A757911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37088-22FA-4920-9D57-BF1AEEF5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51D5E-166D-405D-BD75-E08A497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88A37-749C-4697-BEC1-8CAF209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6CC35-93A8-422D-988D-0C76024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8E3221-E1F7-46F0-BD91-F7544990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7DA3-B969-4969-813C-303EBAF6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DBC88-CFA2-40FB-83CD-813C9D11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5C350-4CF6-469A-A01F-95DD6100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33DBC-3973-4199-BCE3-002837F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60FC-376C-4529-8ACF-59AA914E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2C68-607E-4DD9-9B33-33CDD23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8043-E50C-41FF-9B7C-A34F337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6193-B0CB-484C-AFE7-E357CA6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05B-E670-4586-B1BC-20556C93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5254-53B2-430E-9398-E20DBB4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8C4D-690C-421E-9BC1-AE874A6D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BDC3-3460-40C0-87A1-F237405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4835-EBEA-4158-8776-736B1AD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BAE2-C808-4B9D-B9DB-1FBA56A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7A9F-0794-45B3-89E8-E361F9DC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E84F-309A-4FF5-8ED4-F0A96513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145A-1039-41F8-8EE8-09458889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D1A4-34A8-4BE7-B34E-D42578C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7186-BA25-4F80-9B87-A0C20D7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2F3-FEB5-4261-AE41-72B2BBED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D429-E8F2-4BE1-876E-F07A0CD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81D6-AA5E-4FF7-B75D-13C7D0D8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3BF0-790D-461C-85E0-07E1A957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F080-E164-406F-BCBD-53133CC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65B7-68B1-41BC-B691-D2E8BAC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9D75-4BBB-4DEE-9424-77C56AE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B195-AA1A-49E5-A22F-9EDECD7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1B1A-C24F-4019-B0EE-7DB83DAD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0C8C-21A7-4C76-972F-F7CAD435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A07A-364A-45D4-9E06-3FF83547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FAD-3117-4AF3-BD94-215C536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0247-D5C7-4683-8895-A3AB6EB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D946-8DFC-4B43-BAE9-36EB28FF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0D2C-A8C3-47B5-8EF0-778D830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5BCD-574A-4E6C-AD31-518C4DA5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9953-D836-4F06-9E1D-077AD74F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0946-F184-4FE6-B700-0C96BE17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3622-AF0C-4FAD-B324-2143680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4006C-4699-4278-AB4D-FDC64CB0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FCE5-B236-4174-8584-C8A428F1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6F13-C627-4F54-8917-3B208376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587-F9D2-4660-B479-0ADAB9F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CD743-A843-4101-9E0A-7C12B65A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8D27-3F7A-4250-B2F2-2C3049BC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E5D1-5EFF-4BC5-9628-9F4EECE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786A-6D9A-47F4-8292-04C82472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6C5A-DA68-4509-89DF-8F8E114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5C69-4999-4C32-802A-54F61BF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D251-A74C-449E-B23B-C5514A5C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A606-E6D1-42E2-BA9F-A80161A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7EA3-95F4-4D36-A73B-AFBE9BE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FDA5-8BCE-4865-BA07-CA75FFB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7F8-9B4F-4B18-928D-050F3E3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94CB-CEFD-4929-9B9E-9F367CD2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87F4-ECD1-4796-BDAC-37B1C45C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4E6B-06AB-440B-BCBE-6F47A6AA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6471-6B8D-418F-BBA1-83A0FA3A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D2913-C90A-4D3E-99B7-134B03E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4C52-185C-4DA7-99C3-4E7CB0AD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9F96-C7EE-47E0-8FEE-377F5E89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534A-7C3C-446D-AB79-5C4127D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1740-BF0E-4DDF-B0CC-3DB0231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0F36-E822-49F9-A235-3024D17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0A8-C386-45A6-891D-CC1C686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77E8-C89F-47F0-BC7F-CBE4A4D1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2B91-188B-4083-9DDE-0476B0B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22FD-5585-48EF-A68E-DC99C73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C4CE-B146-47C6-9F51-15F29E4A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6A63-161F-4CC8-9F3C-6944A0EB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3D3B0-53DF-4C3C-A793-D4069791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4B80-7FBB-4A21-833D-F4FEE5EA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F0ED4-8AA8-46A4-8C27-8833F1A0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40BB-284E-421B-91D0-431C95A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0B5A-35CD-414D-8EE8-35AFD85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449-2746-4B02-9442-7B000B7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067EB-DDBA-427F-A6C9-8336B63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B5D21-276B-4063-BE89-42A68C3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C8A2D-B9D0-4D27-9A02-4D48A150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00A7-08A5-491D-AEE7-E140863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B34FB-3DE4-4FFF-9EA3-6A96499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26B23-5189-4913-8A0F-0D8758A3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7756-BFCF-40E2-864B-1A89390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F3A5E-2964-459E-8F03-1BB1D3A5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736C5-8DF6-4A5A-9CA6-E529DCA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24A36-41B0-47DD-8BED-12B2C18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91E-5EB7-4AF6-B176-826064A115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2AA1-64EA-400B-8347-010E722C2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EEA-EB3D-4245-9AA2-96670AAB2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D90C-1795-4D6C-842B-B4BCDC4EC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F01-A0BB-4137-8877-66AFDD1EE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3ACE-6355-4228-95C4-19B08BA0C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6CEF-33C0-44A7-8992-4B7381441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FFB-C991-46EC-83D5-D3FD700C0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470B-32C4-44E3-9ACA-132672AC19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077-4BF4-48FD-A0B2-9C3F945D07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E6C7-3815-42F4-8C27-27236ABEB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AE8-1179-4AEC-8E49-4212D7A3A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00C2-3C86-4F51-83DF-48001F717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CA4-AAD4-4103-AD86-8D40FEEC7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2BE4-D2BD-41B9-B2EF-560A6F510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808-32FC-4977-A3BB-37EB7D9DC0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166E-66E2-4504-BF3C-571638294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C80-EECB-4FCD-A3B2-49B1E0A97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3D8-D18D-4355-B133-18FF03475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01A2-632C-41A5-86D4-4BEC87B59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E2FA-9F65-4940-B736-BDB1CE94AE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009-4B50-4057-91DB-434B59AC5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25D-FD7D-4980-A049-768A3DC7B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816-475F-4CCF-A3DF-628FAC6C3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8DBA-DB37-4940-9CCE-C2C235DE4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DE7-3046-40AB-8E22-69D782336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0C1-65EF-49E6-AC9E-24AB48482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20E8-BA9F-4DB3-B467-A12B32386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92F5-2805-48F3-8F51-A5A183F0A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1733-DD0A-47E0-BCB4-45CF05F43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93A-EC1C-4E18-9F0B-EB5EBEC16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C83-7F7A-4B86-9BB3-B40DB0D1E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A6C2-B8EE-4562-BA87-82B04C7DE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6F5-055B-4BDD-8E7C-C8B9250AD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304-1D4F-4FD8-831D-8DA609F80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4C24-C9B6-48BF-85E8-104C3C820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E73-F249-422B-AE2F-FF5156CAE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271-4C45-470D-967D-9C991C670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9E3-B92C-4671-A94E-5E03BAE867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403-EE0B-48ED-A33C-D5D8D08F2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143080" y="3152880"/>
            <a:ext cx="48578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79873" descr=""/>
          <p:cNvPicPr/>
          <p:nvPr/>
        </p:nvPicPr>
        <p:blipFill>
          <a:blip r:embed="rId1"/>
          <a:stretch/>
        </p:blipFill>
        <p:spPr>
          <a:xfrm>
            <a:off x="539640" y="942840"/>
            <a:ext cx="8001000" cy="378144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79875" descr=""/>
          <p:cNvPicPr/>
          <p:nvPr/>
        </p:nvPicPr>
        <p:blipFill>
          <a:blip r:embed="rId2"/>
          <a:stretch/>
        </p:blipFill>
        <p:spPr>
          <a:xfrm>
            <a:off x="1112760" y="4782960"/>
            <a:ext cx="7400880" cy="1047960"/>
          </a:xfrm>
          <a:prstGeom prst="rect">
            <a:avLst/>
          </a:prstGeom>
          <a:ln w="0">
            <a:noFill/>
          </a:ln>
        </p:spPr>
      </p:pic>
      <p:sp>
        <p:nvSpPr>
          <p:cNvPr id="1054" name="矩形 79876"/>
          <p:cNvSpPr/>
          <p:nvPr/>
        </p:nvSpPr>
        <p:spPr>
          <a:xfrm>
            <a:off x="1460520" y="2046240"/>
            <a:ext cx="5904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9877"/>
          <p:cNvSpPr/>
          <p:nvPr/>
        </p:nvSpPr>
        <p:spPr>
          <a:xfrm>
            <a:off x="7299360" y="2075040"/>
            <a:ext cx="65736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9879"/>
          <p:cNvSpPr/>
          <p:nvPr/>
        </p:nvSpPr>
        <p:spPr>
          <a:xfrm>
            <a:off x="2222640" y="2627280"/>
            <a:ext cx="6570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9880"/>
          <p:cNvSpPr/>
          <p:nvPr/>
        </p:nvSpPr>
        <p:spPr>
          <a:xfrm>
            <a:off x="2117880" y="5380200"/>
            <a:ext cx="7984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8849" descr=""/>
          <p:cNvPicPr/>
          <p:nvPr/>
        </p:nvPicPr>
        <p:blipFill>
          <a:blip r:embed="rId1"/>
          <a:stretch/>
        </p:blipFill>
        <p:spPr>
          <a:xfrm>
            <a:off x="552600" y="952560"/>
            <a:ext cx="8038800" cy="495288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8850"/>
          <p:cNvSpPr/>
          <p:nvPr/>
        </p:nvSpPr>
        <p:spPr>
          <a:xfrm>
            <a:off x="3651120" y="2133720"/>
            <a:ext cx="4222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8851"/>
          <p:cNvSpPr/>
          <p:nvPr/>
        </p:nvSpPr>
        <p:spPr>
          <a:xfrm>
            <a:off x="2936880" y="2705040"/>
            <a:ext cx="5554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77825" descr=""/>
          <p:cNvPicPr/>
          <p:nvPr/>
        </p:nvPicPr>
        <p:blipFill>
          <a:blip r:embed="rId1"/>
          <a:stretch/>
        </p:blipFill>
        <p:spPr>
          <a:xfrm>
            <a:off x="519120" y="1038240"/>
            <a:ext cx="8105760" cy="4781520"/>
          </a:xfrm>
          <a:prstGeom prst="rect">
            <a:avLst/>
          </a:prstGeom>
          <a:ln w="0">
            <a:noFill/>
          </a:ln>
        </p:spPr>
      </p:pic>
      <p:sp>
        <p:nvSpPr>
          <p:cNvPr id="1062" name="矩形 77826"/>
          <p:cNvSpPr/>
          <p:nvPr/>
        </p:nvSpPr>
        <p:spPr>
          <a:xfrm>
            <a:off x="1108080" y="4581360"/>
            <a:ext cx="4327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7827"/>
          <p:cNvSpPr/>
          <p:nvPr/>
        </p:nvSpPr>
        <p:spPr>
          <a:xfrm>
            <a:off x="1069920" y="5353200"/>
            <a:ext cx="432756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76801" descr=""/>
          <p:cNvPicPr/>
          <p:nvPr/>
        </p:nvPicPr>
        <p:blipFill>
          <a:blip r:embed="rId1"/>
          <a:stretch/>
        </p:blipFill>
        <p:spPr>
          <a:xfrm>
            <a:off x="847800" y="866880"/>
            <a:ext cx="7448400" cy="5124240"/>
          </a:xfrm>
          <a:prstGeom prst="rect">
            <a:avLst/>
          </a:prstGeom>
          <a:ln w="0">
            <a:noFill/>
          </a:ln>
        </p:spPr>
      </p:pic>
      <p:sp>
        <p:nvSpPr>
          <p:cNvPr id="1065" name="矩形 76802"/>
          <p:cNvSpPr/>
          <p:nvPr/>
        </p:nvSpPr>
        <p:spPr>
          <a:xfrm>
            <a:off x="888840" y="846000"/>
            <a:ext cx="63471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76803"/>
          <p:cNvSpPr/>
          <p:nvPr/>
        </p:nvSpPr>
        <p:spPr>
          <a:xfrm>
            <a:off x="774720" y="1808280"/>
            <a:ext cx="23572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6804"/>
          <p:cNvSpPr/>
          <p:nvPr/>
        </p:nvSpPr>
        <p:spPr>
          <a:xfrm>
            <a:off x="755640" y="2349360"/>
            <a:ext cx="73976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6805"/>
          <p:cNvSpPr/>
          <p:nvPr/>
        </p:nvSpPr>
        <p:spPr>
          <a:xfrm>
            <a:off x="755640" y="2852640"/>
            <a:ext cx="1655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6806"/>
          <p:cNvSpPr/>
          <p:nvPr/>
        </p:nvSpPr>
        <p:spPr>
          <a:xfrm>
            <a:off x="803160" y="3484440"/>
            <a:ext cx="441648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6807"/>
          <p:cNvSpPr/>
          <p:nvPr/>
        </p:nvSpPr>
        <p:spPr>
          <a:xfrm>
            <a:off x="841320" y="4075200"/>
            <a:ext cx="44164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6808"/>
          <p:cNvSpPr/>
          <p:nvPr/>
        </p:nvSpPr>
        <p:spPr>
          <a:xfrm>
            <a:off x="860400" y="4589640"/>
            <a:ext cx="44164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76809"/>
          <p:cNvSpPr/>
          <p:nvPr/>
        </p:nvSpPr>
        <p:spPr>
          <a:xfrm>
            <a:off x="870120" y="5189400"/>
            <a:ext cx="6222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8908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515200"/>
          </a:xfrm>
          <a:prstGeom prst="rect">
            <a:avLst/>
          </a:prstGeom>
          <a:ln w="0">
            <a:noFill/>
          </a:ln>
        </p:spPr>
      </p:pic>
      <p:sp>
        <p:nvSpPr>
          <p:cNvPr id="1074" name="矩形 89090"/>
          <p:cNvSpPr/>
          <p:nvPr/>
        </p:nvSpPr>
        <p:spPr>
          <a:xfrm>
            <a:off x="4603680" y="2997360"/>
            <a:ext cx="8319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89091"/>
          <p:cNvSpPr/>
          <p:nvPr/>
        </p:nvSpPr>
        <p:spPr>
          <a:xfrm>
            <a:off x="3059280" y="5796000"/>
            <a:ext cx="8316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48840" cy="59342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88066"/>
          <p:cNvSpPr/>
          <p:nvPr/>
        </p:nvSpPr>
        <p:spPr>
          <a:xfrm>
            <a:off x="5724360" y="1557360"/>
            <a:ext cx="38268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8067"/>
          <p:cNvSpPr/>
          <p:nvPr/>
        </p:nvSpPr>
        <p:spPr>
          <a:xfrm>
            <a:off x="5724360" y="2205000"/>
            <a:ext cx="42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5724360" y="2565360"/>
            <a:ext cx="4222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4788000" y="3141720"/>
            <a:ext cx="4222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6215040" y="323388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988920" y="361476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2492280" y="362592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5651640" y="558972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87041" descr=""/>
          <p:cNvPicPr/>
          <p:nvPr/>
        </p:nvPicPr>
        <p:blipFill>
          <a:blip r:embed="rId1"/>
          <a:stretch/>
        </p:blipFill>
        <p:spPr>
          <a:xfrm>
            <a:off x="376200" y="1095480"/>
            <a:ext cx="8391600" cy="4667040"/>
          </a:xfrm>
          <a:prstGeom prst="rect">
            <a:avLst/>
          </a:prstGeom>
          <a:ln w="0">
            <a:noFill/>
          </a:ln>
        </p:spPr>
      </p:pic>
      <p:sp>
        <p:nvSpPr>
          <p:cNvPr id="1033" name="矩形 87042"/>
          <p:cNvSpPr/>
          <p:nvPr/>
        </p:nvSpPr>
        <p:spPr>
          <a:xfrm>
            <a:off x="8166240" y="150336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7043"/>
          <p:cNvSpPr/>
          <p:nvPr/>
        </p:nvSpPr>
        <p:spPr>
          <a:xfrm>
            <a:off x="1936800" y="2646360"/>
            <a:ext cx="6192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7044"/>
          <p:cNvSpPr/>
          <p:nvPr/>
        </p:nvSpPr>
        <p:spPr>
          <a:xfrm>
            <a:off x="1432080" y="3036960"/>
            <a:ext cx="6188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7045"/>
          <p:cNvSpPr/>
          <p:nvPr/>
        </p:nvSpPr>
        <p:spPr>
          <a:xfrm>
            <a:off x="8194680" y="4703760"/>
            <a:ext cx="4096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86017" descr=""/>
          <p:cNvPicPr/>
          <p:nvPr/>
        </p:nvPicPr>
        <p:blipFill>
          <a:blip r:embed="rId1"/>
          <a:stretch/>
        </p:blipFill>
        <p:spPr>
          <a:xfrm>
            <a:off x="399960" y="871560"/>
            <a:ext cx="8344080" cy="5114880"/>
          </a:xfrm>
          <a:prstGeom prst="rect">
            <a:avLst/>
          </a:prstGeom>
          <a:ln w="0">
            <a:noFill/>
          </a:ln>
        </p:spPr>
      </p:pic>
      <p:sp>
        <p:nvSpPr>
          <p:cNvPr id="1038" name="矩形 86018"/>
          <p:cNvSpPr/>
          <p:nvPr/>
        </p:nvSpPr>
        <p:spPr>
          <a:xfrm>
            <a:off x="8166240" y="372276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6019"/>
          <p:cNvSpPr/>
          <p:nvPr/>
        </p:nvSpPr>
        <p:spPr>
          <a:xfrm>
            <a:off x="3419640" y="5229360"/>
            <a:ext cx="9730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6020"/>
          <p:cNvSpPr/>
          <p:nvPr/>
        </p:nvSpPr>
        <p:spPr>
          <a:xfrm>
            <a:off x="2717640" y="5627520"/>
            <a:ext cx="414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84993" descr=""/>
          <p:cNvPicPr/>
          <p:nvPr/>
        </p:nvPicPr>
        <p:blipFill>
          <a:blip r:embed="rId1"/>
          <a:stretch/>
        </p:blipFill>
        <p:spPr>
          <a:xfrm>
            <a:off x="571680" y="966960"/>
            <a:ext cx="8001000" cy="49240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84994"/>
          <p:cNvSpPr/>
          <p:nvPr/>
        </p:nvSpPr>
        <p:spPr>
          <a:xfrm>
            <a:off x="7823160" y="278928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4995"/>
          <p:cNvSpPr/>
          <p:nvPr/>
        </p:nvSpPr>
        <p:spPr>
          <a:xfrm>
            <a:off x="7785000" y="443700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83971" descr=""/>
          <p:cNvPicPr/>
          <p:nvPr/>
        </p:nvPicPr>
        <p:blipFill>
          <a:blip r:embed="rId1"/>
          <a:stretch/>
        </p:blipFill>
        <p:spPr>
          <a:xfrm>
            <a:off x="533520" y="1795320"/>
            <a:ext cx="8076960" cy="32673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83972"/>
          <p:cNvSpPr/>
          <p:nvPr/>
        </p:nvSpPr>
        <p:spPr>
          <a:xfrm>
            <a:off x="7775640" y="290340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2945" descr=""/>
          <p:cNvPicPr/>
          <p:nvPr/>
        </p:nvPicPr>
        <p:blipFill>
          <a:blip r:embed="rId1"/>
          <a:stretch/>
        </p:blipFill>
        <p:spPr>
          <a:xfrm>
            <a:off x="538200" y="1733400"/>
            <a:ext cx="8067600" cy="339120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2946"/>
          <p:cNvSpPr/>
          <p:nvPr/>
        </p:nvSpPr>
        <p:spPr>
          <a:xfrm>
            <a:off x="7785000" y="352260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81921" descr=""/>
          <p:cNvPicPr/>
          <p:nvPr/>
        </p:nvPicPr>
        <p:blipFill>
          <a:blip r:embed="rId1"/>
          <a:stretch/>
        </p:blipFill>
        <p:spPr>
          <a:xfrm>
            <a:off x="538200" y="1805040"/>
            <a:ext cx="8067600" cy="3247920"/>
          </a:xfrm>
          <a:prstGeom prst="rect">
            <a:avLst/>
          </a:prstGeom>
          <a:ln w="0">
            <a:noFill/>
          </a:ln>
        </p:spPr>
      </p:pic>
      <p:sp>
        <p:nvSpPr>
          <p:cNvPr id="1049" name="矩形 81922"/>
          <p:cNvSpPr/>
          <p:nvPr/>
        </p:nvSpPr>
        <p:spPr>
          <a:xfrm>
            <a:off x="7804080" y="351324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0897" descr=""/>
          <p:cNvPicPr/>
          <p:nvPr/>
        </p:nvPicPr>
        <p:blipFill>
          <a:blip r:embed="rId1"/>
          <a:stretch/>
        </p:blipFill>
        <p:spPr>
          <a:xfrm>
            <a:off x="509760" y="1190520"/>
            <a:ext cx="8124480" cy="44769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0898"/>
          <p:cNvSpPr/>
          <p:nvPr/>
        </p:nvSpPr>
        <p:spPr>
          <a:xfrm>
            <a:off x="4556160" y="242712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3:29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